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FB40-D6D6-434D-A085-4AAD494A2B3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A724-3951-4A3B-A45D-CB49B1B4B7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7D0-A534-4A62-B91A-76D31D63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41D4-1658-4729-A1F4-5CECD9184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7FFA-E4E3-47E5-8F95-6324DBA62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4D9-7786-4E5C-8258-12B02FCF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EF3F-2DAC-48FC-A5BC-528BBE7C7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F979-6482-47D7-AB88-E10EF0879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FCB5-CAC0-4CF3-99CB-600430BBB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F811D-AC36-48AF-8494-39337B93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CAEF-2EFD-4CD4-9165-9021D0A9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4AA3C-748E-48F9-A562-89B3EA36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8317-0945-4E6C-896A-01C753BFD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026-BAAF-4B29-BDBB-C9846EA6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C802-9B0D-4A5C-A9A9-3E721AC7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2884-2F37-4A9D-9C8F-3577020E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462F4-2474-48AC-A02D-67188E6A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0654-65B8-4696-9C52-E634E253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6319-8537-45FC-904F-EBCE43893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5F6E8C-21E9-4CE1-B449-63E0DD4E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1CD92-2010-46DF-A66F-C45020A71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EEDA6-F5B5-4AD5-B6F7-A2081DF7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A0C70-F55F-4384-B7AD-90489E26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78E73-730A-4693-B443-B7EE834D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88BA-C816-484E-85A0-CD6FBC47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045B4-EDC9-4531-910A-4DD809A6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AF5DC-EC28-4BDC-BBD0-47FC6826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5355C-9C30-483E-AE7F-8C71F016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3FA92-742B-4F64-BB0E-6ED29AB1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4E745-421C-4BF8-8531-484D5CED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3CFF8-F51F-4307-ACBD-DAF564C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4E084-57D6-4651-A32E-CC5C57E0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D0464-9F64-4E82-88A7-A3B122AF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F9FF1-131C-44CE-8661-3E26D328C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6086BC-CA11-4879-BAB6-E6F48B6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946-5AEA-4056-A78C-31FB21D7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60ACB-74B9-44C4-9B19-9E3D75473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B39CF-CD60-43AF-81C6-52707E5B2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4D1B-1875-4FC1-B050-4F35E6D69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9EC1F-0698-4261-A2F8-32ED170D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53ADD-BF92-43AF-B056-2F317224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4E5B0-2E52-4D4B-BABA-88894AEB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0B1D3-F539-4EE4-8E0B-6AA4B5D1C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2434E-98A5-4BE1-BCB8-07D8AD53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F585-0473-4B65-8B2E-49F3A649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984A-446C-4654-933A-62C3E1A85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02D7-D351-4885-AB04-F2DACAD5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66EC4-606B-48BA-8EBA-66B000A2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D0AE20-8F75-4405-85CE-72CA7C290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547EB-92B6-4C53-AA18-DAAA9495C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3E2A1D-FBDE-41B4-88A5-9EBEE8A0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9F070-79D7-402D-A2A9-62A9FC06C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6AAF-5598-4E1C-B8E2-27890B89A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EFB92-85A5-43F0-B40E-2BDDC9770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3F6FE-3316-4CEA-84A9-4313E83E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FCE9-9497-487F-A1C0-AE6E973E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01259-E15B-4882-BD58-20CEA662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B0B2-7454-41E3-94B3-BFA15354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D4A7-EA14-4281-9FF4-FF9410B9B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01A0-986F-4F91-80EC-98553467E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C032-1AD1-458A-BB70-89AB8F32B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A71-AF3A-4B4E-82A8-1AE44A09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45943-A853-4D88-88C1-6C3FF894E86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1677D-B324-40CB-99DC-988B3282C8A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1865-9741-4FE6-92E1-3C9180A6C42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459CB-6B64-47B4-9A43-AE75A381114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707F-AB75-4B33-BCDF-501F00C98F3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96464"/>
                </a:solidFill>
                <a:latin typeface="Arial"/>
                <a:ea typeface="Arial"/>
              </a:rPr>
              <a:t>Решение квадратных уравнений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89898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914400" y="785520"/>
            <a:ext cx="7772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ежде, чем думать о решении будущих задач, научитесь справляться с сегодняшним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за наименьшее время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 большей эффективностью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.Друкер</a:t>
            </a: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85480" y="274320"/>
            <a:ext cx="864396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28400" y="1447920"/>
            <a:ext cx="8258040" cy="51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) Квадратным уравнением называется уравнение вида …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2) Числа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а, в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вадратном уравнении  называю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3) Коэффициент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вадратного уравнения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4) Второй коэффициент в уравнении: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2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х – 3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5) Первый коэффициент в уравнении: 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х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 + 4х – 7 = 0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равен …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6) Выражение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в</a:t>
            </a:r>
            <a:r>
              <a:rPr b="1" i="1" lang="ru-RU" sz="2600" spc="-1" strike="noStrike" baseline="30000">
                <a:solidFill>
                  <a:srgbClr val="000000"/>
                </a:solidFill>
                <a:latin typeface="Cambria"/>
              </a:rPr>
              <a:t>2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-4</a:t>
            </a:r>
            <a:r>
              <a:rPr b="1" i="1" lang="en-US" sz="2600" spc="-1" strike="noStrike">
                <a:solidFill>
                  <a:srgbClr val="000000"/>
                </a:solidFill>
                <a:latin typeface="Perpetua"/>
              </a:rPr>
              <a:t>a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с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называется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Математический диктант</a:t>
            </a:r>
            <a:br>
              <a:rPr sz="4000"/>
            </a:br>
            <a:r>
              <a:rPr b="0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 «Закончи фразу» 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7) Количество корней квадратного уравнения зависит о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8) Если дискриминант положи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9) Если дискриминант отрицательный, то квадратное уравнение имеет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0) Квадратное уравнение имеет один корень, если …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11) Напишите формулу корней квадратного уравнен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овер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714240"/>
            <a:ext cx="7772400" cy="530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х² + вх + с = 0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оэффициентам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вободный чле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ва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 имеет корн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искриминант равен 0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=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514440" indent="-514440">
              <a:spcBef>
                <a:spcPts val="575"/>
              </a:spcBef>
              <a:buClr>
                <a:srgbClr val="d34817"/>
              </a:buClr>
              <a:buSzPct val="85000"/>
              <a:buFont typeface="Cambr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Оценим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се правильно –      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5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9-10 правильных ответов –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4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7-8 правильных ответов –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3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 остальных случаях –      «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400" cy="797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Сделаем выводы: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х² + вх + с = 0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ное уравнение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 =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</a:t>
            </a:r>
            <a:r>
              <a:rPr b="1" i="1" lang="ru-RU" sz="36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4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иминан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корней зависит от </a:t>
            </a:r>
            <a:r>
              <a:rPr b="1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&g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два различных  корн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D=0,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один корен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сли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&lt;0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, то уравнение корней не имеет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Формула корней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  <a:ea typeface="Arial"/>
              </a:rPr>
              <a:t>Желаю успехов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20T13:48:06Z</dcterms:modified>
  <cp:revision>34</cp:revision>
  <dc:subject/>
  <dc:title>Слайд 1</dc:title>
</cp:coreProperties>
</file>